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7.jpeg" ContentType="image/jpeg"/>
  <Override PartName="/ppt/media/image11.png" ContentType="image/png"/>
  <Override PartName="/ppt/media/image12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73B046-48E7-4D28-B5BF-6A4126D9F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B7FEF5-1B9F-4885-9A9C-5F89D637D28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E4FEFA-3F8E-47F6-A238-6D14D921ABC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51743F-D579-494E-9D32-5BA733A3E0C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DB29D1-B5AA-41B6-864D-23A319467B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613995-062B-4ED0-8B98-FF90892ECB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0BE63F-0202-404E-BC99-C884A775B9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DF7E9E-8765-4F28-BD8E-70AADA9996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102496-55A9-4D19-A980-0C02753DEBF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B493E4-F544-4E45-A2B2-FC4FBEBF041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FB8525-5760-4C79-AC21-2A11EC10A92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1498D4-3AEA-4497-80B2-AA7D71155C7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696D42-4917-4A37-B8F2-F8FCB604F57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7DC5C5-6869-4A48-8A7A-9941C926E91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22B4EC-72BB-432E-A0EB-C05707C81A5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D43007-A444-4C24-8ECB-353D28894F5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880-9669-454B-81FB-1A604BE4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415-F106-4586-BF4C-854FE64C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0FD-F20C-4E73-8B71-864B338B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2E2-0840-4C61-AB6F-FAF9D3EA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1550-89A5-433E-83B6-EFC9634C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AD0B-0696-4656-98A5-9C01CE28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6F10-6D67-4D0C-9721-B093418A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73D8-B3C6-4CA9-9373-AFA14A21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4335-439C-4E9D-BB10-8B7439ED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E4D8-B09D-44AC-B7FE-843F3220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DF20-181E-4F67-94D3-3401223E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492-FFA5-40E7-8D21-85511792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4B50-E850-46D5-8D2B-6AF4AAA8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A423-A099-4F81-8967-334780C2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3E03-11EB-4591-BBDB-5FD94DD3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0151-6FF1-4401-9D4B-A4A67988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A842-5FF9-4CD4-87E1-5CEF62F5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E40CF-F2F6-4BC1-805F-38858E74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C2B54-52F7-4586-9C20-34D9ED4E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0AAD0-A0F6-4CE5-9203-ED7DDBD6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3208-CA8C-4ECA-90F1-E23D019B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34748-0541-4A1F-A245-F37E0A3E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6C5-F952-4553-B6DC-6E2B0CEE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2315D-E2BD-4563-825F-93D19EC1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24A1F-9EC6-4298-8C7E-799C4D51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6762A-8CFF-4462-90AB-715D1511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6809-D837-45D2-B688-1AA50CAB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CE23-CD7B-4A2C-8415-310A9653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34AC8-6CA3-4ACB-8A9C-584862EF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E4032-063A-4B1C-94FF-50BB259F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A0BD1-4106-4FA7-90D0-F60114C2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D8483-F2B3-48AA-B445-90013193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DF5D5-127B-4D2D-BCD2-37CC7DD5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DA0-E820-4186-9C72-6A6BA69C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B7E94-CA04-4FF0-BA34-5F4D065D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CF7D3-7F88-42A6-8810-4C8AB8A1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E48AE-F0D1-40A5-988B-6BF31405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CF1B-D278-4E09-978C-A2138253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C2C31-E9D4-43D1-B8E6-DA2311C0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E288B-D7EB-4C16-BA3F-346B9389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360F-6D26-4737-BD27-DA2E49D6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F3ACA-BC63-401C-AC31-FB1441F4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D0D7-696C-4C84-AD11-69564AB4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181D1-2356-4952-9FB6-63C06B34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1B9-9386-4031-89AA-82675A46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F07F5-EEB4-4B70-8884-881BD538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AE0F9-823B-4BFE-AF00-B39711FD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DC83F-D0E8-4357-BB55-0F5DBA3A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871AA-044C-41EC-8032-982E52F1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996D1-1175-47F6-AD0D-80845B2E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61127-EE2C-4CD2-871D-44E0E9F2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2FDA0-BEBB-407B-B7C3-A7B89D85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D6AE8-0AF7-4B67-822B-C1ACC9C1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066B7-B4AA-4C18-8F74-61468F55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4EEC7-98FB-4F66-BDD8-50304861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9D1-CB90-4EB2-8C51-37327AAC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8501A-8BCA-4157-B9D2-99B9E15B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780F9-774E-44CD-AC44-61F10295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63DC4-2284-4123-AC64-970D2D56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83FDB-C74D-4C44-923F-34090965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CECB6-F36E-4DA9-A44A-994254B6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02F03-0052-4CC8-B9B2-8717B777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FE5A5-8AEF-422C-879E-E1D998E2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4F30F-2C43-4097-8FF1-6046C399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FFD77-2201-472F-B17C-2034274F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470C7-15BB-437C-A03A-F46218E2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87C-F54D-47E4-8677-E15FB918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AD767-42BC-4A4A-8E80-54ADFD15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25FD6-8A63-4F65-82A2-E74CF01C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D79B3-3903-48B0-94BB-53D3FBC0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E26-98C9-453E-9A07-E3358D4A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1AB-01FC-40EF-8ED6-A12B77CA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A8D94D-E195-4449-A975-ACBBD0B73D7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F5C571-B6CA-4710-8BF6-FAB173B87C1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A1019D-7883-429E-A17D-14F9E6CCAC1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D55A18-FE20-40DA-B428-01D28FB8A5D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8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070F78-C60E-4289-87C8-CEF1C17821A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80CC6E-F470-4337-B4AB-3E60B5B61CE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681120" y="0"/>
            <a:ext cx="6703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УЧНЫЙ МЕТОД П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1285920" y="1143000"/>
            <a:ext cx="2285640" cy="713880"/>
          </a:xfrm>
          <a:prstGeom prst="rect">
            <a:avLst/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Calibri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4021200" y="1214280"/>
            <a:ext cx="377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ТОЧНИК 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4"/>
          <p:cNvSpPr/>
          <p:nvPr/>
        </p:nvSpPr>
        <p:spPr>
          <a:xfrm>
            <a:off x="1285920" y="2286000"/>
            <a:ext cx="2285640" cy="713880"/>
          </a:xfrm>
          <a:prstGeom prst="rect">
            <a:avLst/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lt1"/>
                </a:solidFill>
                <a:latin typeface="Calibri"/>
              </a:rPr>
              <a:t>ГИПО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4091760" y="2357280"/>
            <a:ext cx="3917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ЯСНЕНИЕ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1285920" y="3429000"/>
            <a:ext cx="2285640" cy="713880"/>
          </a:xfrm>
          <a:prstGeom prst="rect">
            <a:avLst/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Calibri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4161600" y="3500280"/>
            <a:ext cx="4023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ВЕРКА ГИПОТЕ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8"/>
          <p:cNvSpPr/>
          <p:nvPr/>
        </p:nvSpPr>
        <p:spPr>
          <a:xfrm>
            <a:off x="214200" y="4714920"/>
            <a:ext cx="2428560" cy="1213920"/>
          </a:xfrm>
          <a:prstGeom prst="rect">
            <a:avLst/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ПРАВИЛЬНАЯ ТЕ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9"/>
          <p:cNvSpPr/>
          <p:nvPr/>
        </p:nvSpPr>
        <p:spPr>
          <a:xfrm>
            <a:off x="2928960" y="4714920"/>
            <a:ext cx="2142720" cy="1213920"/>
          </a:xfrm>
          <a:prstGeom prst="rect">
            <a:avLst/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ЛОЖНАЯ ТЕ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трелка вниз 10"/>
          <p:cNvSpPr/>
          <p:nvPr/>
        </p:nvSpPr>
        <p:spPr>
          <a:xfrm>
            <a:off x="2357280" y="1857240"/>
            <a:ext cx="21384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70bb9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Стрелка вниз 11"/>
          <p:cNvSpPr/>
          <p:nvPr/>
        </p:nvSpPr>
        <p:spPr>
          <a:xfrm>
            <a:off x="2357280" y="3000240"/>
            <a:ext cx="21384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70bb9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Стрелка вниз 12"/>
          <p:cNvSpPr/>
          <p:nvPr/>
        </p:nvSpPr>
        <p:spPr>
          <a:xfrm>
            <a:off x="3071880" y="4214880"/>
            <a:ext cx="21384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70bb9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Стрелка вниз 13"/>
          <p:cNvSpPr/>
          <p:nvPr/>
        </p:nvSpPr>
        <p:spPr>
          <a:xfrm>
            <a:off x="1571760" y="4214880"/>
            <a:ext cx="21384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70bb9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Стрелка влево 14"/>
          <p:cNvSpPr/>
          <p:nvPr/>
        </p:nvSpPr>
        <p:spPr>
          <a:xfrm>
            <a:off x="3643200" y="1428840"/>
            <a:ext cx="428400" cy="1425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70bb9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Стрелка влево 15"/>
          <p:cNvSpPr/>
          <p:nvPr/>
        </p:nvSpPr>
        <p:spPr>
          <a:xfrm>
            <a:off x="3643200" y="2571840"/>
            <a:ext cx="428400" cy="1425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70bb9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Стрелка влево 16"/>
          <p:cNvSpPr/>
          <p:nvPr/>
        </p:nvSpPr>
        <p:spPr>
          <a:xfrm>
            <a:off x="3714840" y="3714840"/>
            <a:ext cx="428400" cy="1425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70bb9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2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основании опытов Фарадея можно сделать вывод о том, при каких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условиях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может наблюдаться явление ЭМИ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14200" y="2928960"/>
            <a:ext cx="8715240" cy="36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Явление электромагнитной индукции заключается в возникновении индукционного тока в замкнутом контуре при изменении магнитного потока через площадь, ограниченную контуром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3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2" dur="3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3" dur="3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3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Направлени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ндукционного тока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1500120" y="1785960"/>
            <a:ext cx="2952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Bradley Hand ITC"/>
              </a:rPr>
              <a:t>Прибор Ле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pl_032"/>
          <p:cNvPicPr/>
          <p:nvPr/>
        </p:nvPicPr>
        <p:blipFill>
          <a:blip r:embed="rId1"/>
          <a:stretch/>
        </p:blipFill>
        <p:spPr>
          <a:xfrm>
            <a:off x="5940360" y="1916280"/>
            <a:ext cx="2349000" cy="2614320"/>
          </a:xfrm>
          <a:prstGeom prst="rect">
            <a:avLst/>
          </a:prstGeom>
          <a:ln w="25400">
            <a:solidFill>
              <a:srgbClr val="a50021"/>
            </a:solidFill>
            <a:miter/>
          </a:ln>
        </p:spPr>
      </p:pic>
      <p:sp>
        <p:nvSpPr>
          <p:cNvPr id="297" name="Прямоугольник 5"/>
          <p:cNvSpPr/>
          <p:nvPr/>
        </p:nvSpPr>
        <p:spPr>
          <a:xfrm>
            <a:off x="5651640" y="4797360"/>
            <a:ext cx="3024000" cy="19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Э.Х. Лен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804 – 1865 г.г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адемик, рек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тербург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ниверс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lenc"/>
          <p:cNvPicPr/>
          <p:nvPr/>
        </p:nvPicPr>
        <p:blipFill>
          <a:blip r:embed="rId2"/>
          <a:stretch/>
        </p:blipFill>
        <p:spPr>
          <a:xfrm>
            <a:off x="500040" y="2428920"/>
            <a:ext cx="5079600" cy="3809520"/>
          </a:xfrm>
          <a:prstGeom prst="rect">
            <a:avLst/>
          </a:prstGeom>
          <a:ln w="3810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d0d0d"/>
                </a:solidFill>
                <a:latin typeface="Calibri"/>
              </a:rPr>
              <a:t>Направление индукционного то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713440" cy="15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спомним опыт Фарадея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правление отклонения стрелки амперметра (а значит, и направление тока) может быть различным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" descr="E:\Мое\Физика\Контрольные работы\11 класс\Материалы к урокам\Урок-правило Ленца, самоиндукция\magfin.gif"/>
          <p:cNvPicPr/>
          <p:nvPr/>
        </p:nvPicPr>
        <p:blipFill>
          <a:blip r:embed="rId1"/>
          <a:stretch/>
        </p:blipFill>
        <p:spPr>
          <a:xfrm rot="16200000">
            <a:off x="6062400" y="3938760"/>
            <a:ext cx="2381040" cy="1504440"/>
          </a:xfrm>
          <a:prstGeom prst="rect">
            <a:avLst/>
          </a:prstGeom>
          <a:ln w="0">
            <a:noFill/>
          </a:ln>
        </p:spPr>
      </p:pic>
      <p:pic>
        <p:nvPicPr>
          <p:cNvPr id="302" name="Содержимое 11" descr="Явление ЭМИ с катушкой и магнитом, эпизод 3.gif"/>
          <p:cNvPicPr/>
          <p:nvPr/>
        </p:nvPicPr>
        <p:blipFill>
          <a:blip r:embed="rId2"/>
          <a:stretch/>
        </p:blipFill>
        <p:spPr>
          <a:xfrm>
            <a:off x="2857320" y="3143160"/>
            <a:ext cx="3312720" cy="2650680"/>
          </a:xfrm>
          <a:prstGeom prst="rect">
            <a:avLst/>
          </a:prstGeom>
          <a:ln w="0">
            <a:noFill/>
          </a:ln>
        </p:spPr>
      </p:pic>
      <p:pic>
        <p:nvPicPr>
          <p:cNvPr id="303" name="Содержимое 8" descr="Явление ЭМИ с катушкой и магнитом, эпизод 1.gif"/>
          <p:cNvPicPr/>
          <p:nvPr/>
        </p:nvPicPr>
        <p:blipFill>
          <a:blip r:embed="rId3"/>
          <a:stretch/>
        </p:blipFill>
        <p:spPr>
          <a:xfrm>
            <a:off x="214200" y="3286080"/>
            <a:ext cx="2984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2920" y="285840"/>
            <a:ext cx="87865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0d0d0d"/>
                </a:solidFill>
                <a:latin typeface="Calibri"/>
              </a:rPr>
              <a:t>Объяснение</a:t>
            </a:r>
            <a:r>
              <a:rPr b="1" i="1" lang="ru-RU" sz="4400" spc="-1" strike="noStrike">
                <a:solidFill>
                  <a:srgbClr val="0d0d0d"/>
                </a:solidFill>
                <a:latin typeface="Calibri"/>
              </a:rPr>
              <a:t> опыта Ленц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14200" y="1643040"/>
            <a:ext cx="47145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риблизить магнит к проводящему кольцу, то оно начнет отталкиваться от магнита. Это отталкивание можно объяснить только тем, что в кольце возникает индукционный ток, обусловленный возрастанием магнитного потока через кольцо, а кольцо с током взаимодействует с магнитом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Содержимое 7" descr="IMG_0002.JPG"/>
          <p:cNvPicPr/>
          <p:nvPr/>
        </p:nvPicPr>
        <p:blipFill>
          <a:blip r:embed="rId1"/>
          <a:stretch/>
        </p:blipFill>
        <p:spPr>
          <a:xfrm>
            <a:off x="4943520" y="1857240"/>
            <a:ext cx="405720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85840" y="928800"/>
            <a:ext cx="8714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равило Ленц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: индукционный ток имеет такое направление, что созданный им магнитный поток всегда стремится скомпенсировать то изменение магнитного потока, которое вызвало данный ток.      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d0d0d"/>
                </a:solidFill>
                <a:latin typeface="Calibri"/>
              </a:rPr>
              <a:t>Как применять правило</a:t>
            </a:r>
            <a:r>
              <a:rPr b="1" i="1" lang="ru-RU" sz="4400" spc="-1" strike="noStrike">
                <a:solidFill>
                  <a:srgbClr val="0d0d0d"/>
                </a:solidFill>
                <a:latin typeface="Calibri"/>
              </a:rPr>
              <a:t> Ленца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89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Если магнитный поток через контур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зрастает ∆Ф</a:t>
            </a:r>
            <a:r>
              <a:rPr b="1" lang="el-GR" sz="3200" spc="-1" strike="noStrike" u="sng">
                <a:solidFill>
                  <a:srgbClr val="000000"/>
                </a:solidFill>
                <a:uFillTx/>
                <a:latin typeface="Calibri"/>
              </a:rPr>
              <a:t>&gt;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то направление индукционного тока в контуре таково, что вектор магнитной индукции созданного этим током поля В₁ направлен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тивоположн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вектору магнитной индукции внешнего магнитного пол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(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₁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B 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89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Если магнитный поток через контур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меньшается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∆Ф</a:t>
            </a:r>
            <a:r>
              <a:rPr b="1" lang="el-GR" sz="3200" spc="-1" strike="noStrike" u="sng">
                <a:solidFill>
                  <a:srgbClr val="000000"/>
                </a:solidFill>
                <a:uFillTx/>
                <a:latin typeface="Calibri"/>
              </a:rPr>
              <a:t>&lt;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то направление индукционного тока таково, что вектор магнитной индукции созданного этим током поля В₁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онаправле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вектору магнитной индукции внешнего пол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(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₁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B 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Прямая со стрелкой 4"/>
          <p:cNvCxnSpPr/>
          <p:nvPr/>
        </p:nvCxnSpPr>
        <p:spPr>
          <a:xfrm flipH="1">
            <a:off x="5857560" y="3500280"/>
            <a:ext cx="2160" cy="35748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11" name="Прямая со стрелкой 5"/>
          <p:cNvCxnSpPr/>
          <p:nvPr/>
        </p:nvCxnSpPr>
        <p:spPr>
          <a:xfrm flipV="1">
            <a:off x="6000480" y="3500280"/>
            <a:ext cx="2160" cy="35748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12" name="Прямая со стрелкой 10"/>
          <p:cNvCxnSpPr/>
          <p:nvPr/>
        </p:nvCxnSpPr>
        <p:spPr>
          <a:xfrm flipV="1">
            <a:off x="7429320" y="5429160"/>
            <a:ext cx="1800" cy="42876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13" name="Прямая со стрелкой 14"/>
          <p:cNvCxnSpPr/>
          <p:nvPr/>
        </p:nvCxnSpPr>
        <p:spPr>
          <a:xfrm flipV="1">
            <a:off x="7572240" y="5429160"/>
            <a:ext cx="1800" cy="42876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260640"/>
            <a:ext cx="8572320" cy="57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7200" spc="-1" strike="noStrike">
                <a:solidFill>
                  <a:srgbClr val="070bb9"/>
                </a:solidFill>
                <a:latin typeface="Calibri"/>
              </a:rPr>
              <a:t>Явление электромагнитной индукции.</a:t>
            </a:r>
            <a:br>
              <a:rPr sz="7200"/>
            </a:br>
            <a:r>
              <a:rPr b="1" i="1" lang="ru-RU" sz="7200" spc="-1" strike="noStrike">
                <a:solidFill>
                  <a:srgbClr val="070bb9"/>
                </a:solidFill>
                <a:latin typeface="Calibri"/>
              </a:rPr>
              <a:t>(ЭМИ)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4200" y="571320"/>
            <a:ext cx="8786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 1820 г Эрстед обнаружил действие проводника с током на магнитную стрелку. Этим опытом показали «превращение электричества в магнетизм».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Содержимое 9" descr="IMG_0006.JPG"/>
          <p:cNvPicPr/>
          <p:nvPr/>
        </p:nvPicPr>
        <p:blipFill>
          <a:blip r:embed="rId1"/>
          <a:stretch/>
        </p:blipFill>
        <p:spPr>
          <a:xfrm>
            <a:off x="485280" y="2234880"/>
            <a:ext cx="3982320" cy="3255840"/>
          </a:xfrm>
          <a:prstGeom prst="rect">
            <a:avLst/>
          </a:prstGeom>
          <a:ln w="0">
            <a:noFill/>
          </a:ln>
        </p:spPr>
      </p:pic>
      <p:pic>
        <p:nvPicPr>
          <p:cNvPr id="275" name="Содержимое 5" descr="Ганс Христиан Эрстед"/>
          <p:cNvPicPr/>
          <p:nvPr/>
        </p:nvPicPr>
        <p:blipFill>
          <a:blip r:embed="rId2"/>
          <a:stretch/>
        </p:blipFill>
        <p:spPr>
          <a:xfrm>
            <a:off x="5572080" y="2214720"/>
            <a:ext cx="2571480" cy="3357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"/>
          <p:cNvSpPr/>
          <p:nvPr/>
        </p:nvSpPr>
        <p:spPr>
          <a:xfrm>
            <a:off x="464040" y="785880"/>
            <a:ext cx="80892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ыт Эрстеда показ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Электрический ток созда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агнитное по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ипотеза Фараде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агнитное поле должно создав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электрический т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0" descr="Картинка 37 из 4732"/>
          <p:cNvPicPr/>
          <p:nvPr/>
        </p:nvPicPr>
        <p:blipFill>
          <a:blip r:embed="rId1"/>
          <a:stretch/>
        </p:blipFill>
        <p:spPr>
          <a:xfrm>
            <a:off x="571320" y="394200"/>
            <a:ext cx="77148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840" y="928800"/>
            <a:ext cx="8857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Опыты Фарадея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 исследованию ЭМИ можно разделить на две серии: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Возникновение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дукционного тока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катушке при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вижении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агнита ;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Содержимое 8" descr="Явление ЭМИ с катушкой и магнитом, эпизод 1.gif"/>
          <p:cNvPicPr/>
          <p:nvPr/>
        </p:nvPicPr>
        <p:blipFill>
          <a:blip r:embed="rId1"/>
          <a:stretch/>
        </p:blipFill>
        <p:spPr>
          <a:xfrm>
            <a:off x="5286240" y="2357280"/>
            <a:ext cx="385740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214200" y="1143000"/>
            <a:ext cx="728640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Возникновение         индукцион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ока в од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тушке пр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зменении ток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ругой катуш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Содержимое 9" descr="Явление ЭМИ с двумя катушками, эпизод 2.gif"/>
          <p:cNvPicPr/>
          <p:nvPr/>
        </p:nvPicPr>
        <p:blipFill>
          <a:blip r:embed="rId1"/>
          <a:stretch/>
        </p:blipFill>
        <p:spPr>
          <a:xfrm>
            <a:off x="4786200" y="1071720"/>
            <a:ext cx="41428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Опыты Фарадея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серия опы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Содержимое 8" descr="Явление ЭМИ с катушкой и магнитом, эпизод 1.gif"/>
          <p:cNvPicPr/>
          <p:nvPr/>
        </p:nvPicPr>
        <p:blipFill>
          <a:blip r:embed="rId1"/>
          <a:stretch/>
        </p:blipFill>
        <p:spPr>
          <a:xfrm>
            <a:off x="214200" y="2143080"/>
            <a:ext cx="4282920" cy="40716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серия опы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Содержимое 9" descr="Явление ЭМИ с двумя катушками, эпизод 2.gif"/>
          <p:cNvPicPr/>
          <p:nvPr/>
        </p:nvPicPr>
        <p:blipFill>
          <a:blip r:embed="rId2"/>
          <a:stretch/>
        </p:blipFill>
        <p:spPr>
          <a:xfrm>
            <a:off x="4429080" y="2071800"/>
            <a:ext cx="4500360" cy="4142880"/>
          </a:xfrm>
          <a:prstGeom prst="rect">
            <a:avLst/>
          </a:prstGeom>
          <a:ln w="0">
            <a:noFill/>
          </a:ln>
        </p:spPr>
      </p:pic>
      <p:pic>
        <p:nvPicPr>
          <p:cNvPr id="287" name="Содержимое 8" descr="Явление ЭМИ с катушкой и магнитом, эпизод 1.gif"/>
          <p:cNvPicPr/>
          <p:nvPr/>
        </p:nvPicPr>
        <p:blipFill>
          <a:blip r:embed="rId3"/>
          <a:stretch/>
        </p:blipFill>
        <p:spPr>
          <a:xfrm>
            <a:off x="366840" y="2295360"/>
            <a:ext cx="428292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00720" cy="27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ывод из опытов Фарадея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ндукционный ток в катушке возникает тогда, когда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изменяется магнитный поток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, пронизывающий катушку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Содержимое 8" descr="Явление ЭМИ с катушкой и магнитом, эпизод 1.gif"/>
          <p:cNvPicPr/>
          <p:nvPr/>
        </p:nvPicPr>
        <p:blipFill>
          <a:blip r:embed="rId1"/>
          <a:stretch/>
        </p:blipFill>
        <p:spPr>
          <a:xfrm>
            <a:off x="467640" y="2781000"/>
            <a:ext cx="2802240" cy="2664000"/>
          </a:xfrm>
          <a:prstGeom prst="rect">
            <a:avLst/>
          </a:prstGeom>
          <a:ln w="0">
            <a:noFill/>
          </a:ln>
        </p:spPr>
      </p:pic>
      <p:pic>
        <p:nvPicPr>
          <p:cNvPr id="290" name="Содержимое 9" descr="Явление ЭМИ с двумя катушками, эпизод 2.gif"/>
          <p:cNvPicPr/>
          <p:nvPr/>
        </p:nvPicPr>
        <p:blipFill>
          <a:blip r:embed="rId2"/>
          <a:stretch/>
        </p:blipFill>
        <p:spPr>
          <a:xfrm>
            <a:off x="3348000" y="2781000"/>
            <a:ext cx="3330000" cy="2664000"/>
          </a:xfrm>
          <a:prstGeom prst="rect">
            <a:avLst/>
          </a:prstGeom>
          <a:ln w="0">
            <a:noFill/>
          </a:ln>
        </p:spPr>
      </p:pic>
      <p:pic>
        <p:nvPicPr>
          <p:cNvPr id="291" name="Содержимое 6" descr="Безымянный.jpg"/>
          <p:cNvPicPr/>
          <p:nvPr/>
        </p:nvPicPr>
        <p:blipFill>
          <a:blip r:embed="rId3"/>
          <a:stretch/>
        </p:blipFill>
        <p:spPr>
          <a:xfrm>
            <a:off x="6804360" y="2781000"/>
            <a:ext cx="1762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  <Words>374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6:44:30Z</dcterms:created>
  <dc:creator>Марина</dc:creator>
  <dc:description/>
  <dc:language>en-US</dc:language>
  <cp:lastModifiedBy>Хава</cp:lastModifiedBy>
  <dcterms:modified xsi:type="dcterms:W3CDTF">2023-02-27T08:32:33Z</dcterms:modified>
  <cp:revision>352</cp:revision>
  <dc:subject/>
  <dc:title>Проводники  в электростатическом п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Экран (4:3)</vt:lpwstr>
  </property>
  <property fmtid="{D5CDD505-2E9C-101B-9397-08002B2CF9AE}" pid="4" name="Slides">
    <vt:r8>15</vt:r8>
  </property>
</Properties>
</file>